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shreg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5CF1-898A-42DD-BA8C-4645376C1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1ED1-1ADD-4814-BC23-ABCCD52D10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FB02-6419-4984-B6F3-E1F99C15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69DD-F5A1-4A9D-A785-0556C23A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332D-B8E4-4170-A00C-3B14120A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C20-F42D-4658-A5C8-6F44BE1A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F5FF-2563-4F59-966D-50C1C44D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CCE0-6D7E-4E29-A2AC-745EFA65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132-BBA9-4395-BE3B-B0466C62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A15-6B37-4F79-9939-899FC8E7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4E90-693F-46CB-BC99-44062807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E67D-1401-4AE0-B958-F6E0C6E1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9EB-7C8D-4167-A95B-FE0F3E6F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B264-8227-48A0-B5BF-C97D5C82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A80D-D7FB-4479-A971-D80EE54552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ringe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(n) _________ describes how particles will behave around other partic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685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The Ba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1295280"/>
            <a:ext cx="8915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Part Two: Behavior of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harg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describes how particles will behave around other parti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Negative charges mov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away from other negative charges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towards positi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har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Negative charges move because electrons have much less mass than prot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a charge 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negative charges behave around other negative charg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negative charges behave around positive charg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Quick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18288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py the picture below.  Use arrows to indicate how the charges woul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914400" y="3200400"/>
            <a:ext cx="746748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6765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60020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676520" y="5029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67652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62485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640080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6324480" y="5105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6324480" y="4343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Quick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18288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914400" y="3200400"/>
            <a:ext cx="746748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6765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60020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676520" y="5029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67652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2485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40080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6324480" y="5105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6324480" y="4343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1905120" y="3733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1981080" y="5486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8"/>
          <p:cNvSpPr/>
          <p:nvPr/>
        </p:nvSpPr>
        <p:spPr>
          <a:xfrm>
            <a:off x="6553080" y="38098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6629400" y="5562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Quick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18288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14400" y="3200400"/>
            <a:ext cx="746748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6765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60020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676520" y="5029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67652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2485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640080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6324480" y="5105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6324480" y="4343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4"/>
          <p:cNvSpPr/>
          <p:nvPr/>
        </p:nvSpPr>
        <p:spPr>
          <a:xfrm>
            <a:off x="2133720" y="350532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2209680" y="4419720"/>
            <a:ext cx="403884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2209680" y="5257800"/>
            <a:ext cx="403884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7"/>
          <p:cNvSpPr/>
          <p:nvPr/>
        </p:nvSpPr>
        <p:spPr>
          <a:xfrm>
            <a:off x="2209680" y="6095880"/>
            <a:ext cx="4038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Quick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18288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914400" y="3200400"/>
            <a:ext cx="746748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6765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60020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676520" y="5029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167652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62485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640080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6324480" y="5105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6324480" y="4343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4"/>
          <p:cNvSpPr/>
          <p:nvPr/>
        </p:nvSpPr>
        <p:spPr>
          <a:xfrm>
            <a:off x="2133720" y="350532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2209680" y="4419720"/>
            <a:ext cx="4038840" cy="152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6"/>
          <p:cNvSpPr/>
          <p:nvPr/>
        </p:nvSpPr>
        <p:spPr>
          <a:xfrm>
            <a:off x="2209680" y="5257800"/>
            <a:ext cx="4038840" cy="76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7"/>
          <p:cNvSpPr/>
          <p:nvPr/>
        </p:nvSpPr>
        <p:spPr>
          <a:xfrm>
            <a:off x="2209680" y="6095880"/>
            <a:ext cx="4038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The Ba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18288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A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force of attraction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exists between opposite char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A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force of repulsion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exists between like char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8"/>
          <p:cNvGrpSpPr/>
          <p:nvPr/>
        </p:nvGrpSpPr>
        <p:grpSpPr>
          <a:xfrm>
            <a:off x="457200" y="5257800"/>
            <a:ext cx="2666880" cy="1191240"/>
            <a:chOff x="457200" y="5257800"/>
            <a:chExt cx="2666880" cy="1191240"/>
          </a:xfrm>
        </p:grpSpPr>
        <p:sp>
          <p:nvSpPr>
            <p:cNvPr id="156" name="Text Box 6"/>
            <p:cNvSpPr/>
            <p:nvPr/>
          </p:nvSpPr>
          <p:spPr>
            <a:xfrm>
              <a:off x="533520" y="525780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>
              <a:off x="1371600" y="525780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2"/>
            <p:cNvSpPr/>
            <p:nvPr/>
          </p:nvSpPr>
          <p:spPr>
            <a:xfrm flipH="1">
              <a:off x="457200" y="5867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5"/>
            <p:cNvSpPr/>
            <p:nvPr/>
          </p:nvSpPr>
          <p:spPr>
            <a:xfrm flipH="1">
              <a:off x="2514600" y="5867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19"/>
          <p:cNvGrpSpPr/>
          <p:nvPr/>
        </p:nvGrpSpPr>
        <p:grpSpPr>
          <a:xfrm>
            <a:off x="3505320" y="4343400"/>
            <a:ext cx="2514600" cy="1191240"/>
            <a:chOff x="3505320" y="4343400"/>
            <a:chExt cx="2514600" cy="1191240"/>
          </a:xfrm>
        </p:grpSpPr>
        <p:sp>
          <p:nvSpPr>
            <p:cNvPr id="161" name="Text Box 9"/>
            <p:cNvSpPr/>
            <p:nvPr/>
          </p:nvSpPr>
          <p:spPr>
            <a:xfrm>
              <a:off x="4267440" y="434340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3505320" y="434340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3"/>
            <p:cNvSpPr/>
            <p:nvPr/>
          </p:nvSpPr>
          <p:spPr>
            <a:xfrm flipH="1">
              <a:off x="3657600" y="50292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6"/>
            <p:cNvSpPr/>
            <p:nvPr/>
          </p:nvSpPr>
          <p:spPr>
            <a:xfrm flipH="1">
              <a:off x="5334120" y="50292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20"/>
          <p:cNvGrpSpPr/>
          <p:nvPr/>
        </p:nvGrpSpPr>
        <p:grpSpPr>
          <a:xfrm>
            <a:off x="5791320" y="5181480"/>
            <a:ext cx="3352680" cy="1267560"/>
            <a:chOff x="5791320" y="5181480"/>
            <a:chExt cx="3352680" cy="1267560"/>
          </a:xfrm>
        </p:grpSpPr>
        <p:sp>
          <p:nvSpPr>
            <p:cNvPr id="166" name="Text Box 8"/>
            <p:cNvSpPr/>
            <p:nvPr/>
          </p:nvSpPr>
          <p:spPr>
            <a:xfrm>
              <a:off x="5791320" y="525780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0"/>
            <p:cNvSpPr/>
            <p:nvPr/>
          </p:nvSpPr>
          <p:spPr>
            <a:xfrm>
              <a:off x="7391520" y="518148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4"/>
            <p:cNvSpPr/>
            <p:nvPr/>
          </p:nvSpPr>
          <p:spPr>
            <a:xfrm flipH="1">
              <a:off x="7543800" y="5867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7"/>
            <p:cNvSpPr/>
            <p:nvPr/>
          </p:nvSpPr>
          <p:spPr>
            <a:xfrm flipH="1">
              <a:off x="6934320" y="5867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a force of attr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a force of repul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 questions 1-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Static Electr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18288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When matte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gains or loses electron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, it becom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charge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Electricit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 is the flow of electrons between charged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bjectiv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143000"/>
            <a:ext cx="42624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WBAT describe an electric charge and static electri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91440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9bbb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llrin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9bbb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bjective/ Agenda/ Big Go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9bbb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9bbb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9bbb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view Probl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9bbb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od scientists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know how electricity works, cause we use it everyday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% or better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CT2 65 days from now (Proficient and advanced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9bbb5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514600" y="3657600"/>
            <a:ext cx="7086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Big Goal Connec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496800" y="373392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BIG GOA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Static Electr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18288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Static electricity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charges build up in an object, but they do not flow continuous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Static electricity is transferred through charging by friction, by conduction, and by indu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oes an object become charg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static electric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3 ways static electricity is transferr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Static Electr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18288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Friction – When two objects rub together and one gives up electrons to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6" descr="http://images.google.com/images?q=tbn:x2quTVjbBj0C:www.grmuseum.org/funstuff/electricity/Efun-3.gif"/>
          <p:cNvPicPr/>
          <p:nvPr/>
        </p:nvPicPr>
        <p:blipFill>
          <a:blip r:embed="rId1"/>
          <a:stretch/>
        </p:blipFill>
        <p:spPr>
          <a:xfrm>
            <a:off x="2971800" y="36576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fri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an example of fr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Static Electr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18288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Conduction: When a charged object touches a non-charged objects and electrons are transfer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7" descr="http://www.brown.edu/Departments/Swearer_Center/Projects/PSO/files/shock.gif"/>
          <p:cNvPicPr/>
          <p:nvPr/>
        </p:nvPicPr>
        <p:blipFill>
          <a:blip r:embed="rId1"/>
          <a:stretch/>
        </p:blipFill>
        <p:spPr>
          <a:xfrm>
            <a:off x="2362320" y="4343400"/>
            <a:ext cx="44956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condu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an example of condu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Static Electr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18288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Induction – When charges separate but don’t transf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29"/>
          <p:cNvGrpSpPr/>
          <p:nvPr/>
        </p:nvGrpSpPr>
        <p:grpSpPr>
          <a:xfrm>
            <a:off x="685800" y="4267080"/>
            <a:ext cx="2514600" cy="1907640"/>
            <a:chOff x="685800" y="4267080"/>
            <a:chExt cx="2514600" cy="1907640"/>
          </a:xfrm>
        </p:grpSpPr>
        <p:sp>
          <p:nvSpPr>
            <p:cNvPr id="198" name="Oval 6"/>
            <p:cNvSpPr/>
            <p:nvPr/>
          </p:nvSpPr>
          <p:spPr>
            <a:xfrm>
              <a:off x="685800" y="5181480"/>
              <a:ext cx="25146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7"/>
            <p:cNvSpPr/>
            <p:nvPr/>
          </p:nvSpPr>
          <p:spPr>
            <a:xfrm>
              <a:off x="2209680" y="5410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685800" y="5410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9"/>
            <p:cNvSpPr/>
            <p:nvPr/>
          </p:nvSpPr>
          <p:spPr>
            <a:xfrm>
              <a:off x="1676520" y="5105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10"/>
            <p:cNvSpPr/>
            <p:nvPr/>
          </p:nvSpPr>
          <p:spPr>
            <a:xfrm>
              <a:off x="1066680" y="57150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11"/>
            <p:cNvSpPr/>
            <p:nvPr/>
          </p:nvSpPr>
          <p:spPr>
            <a:xfrm>
              <a:off x="2438280" y="5410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12"/>
            <p:cNvSpPr/>
            <p:nvPr/>
          </p:nvSpPr>
          <p:spPr>
            <a:xfrm>
              <a:off x="1295280" y="51814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13"/>
            <p:cNvSpPr/>
            <p:nvPr/>
          </p:nvSpPr>
          <p:spPr>
            <a:xfrm>
              <a:off x="838080" y="4267080"/>
              <a:ext cx="228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rebuchet MS"/>
                </a:rPr>
                <a:t>Befor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30"/>
          <p:cNvGrpSpPr/>
          <p:nvPr/>
        </p:nvGrpSpPr>
        <p:grpSpPr>
          <a:xfrm>
            <a:off x="3675240" y="3647520"/>
            <a:ext cx="4020840" cy="2603520"/>
            <a:chOff x="3675240" y="3647520"/>
            <a:chExt cx="4020840" cy="2603520"/>
          </a:xfrm>
        </p:grpSpPr>
        <p:sp>
          <p:nvSpPr>
            <p:cNvPr id="207" name="Oval 14"/>
            <p:cNvSpPr/>
            <p:nvPr/>
          </p:nvSpPr>
          <p:spPr>
            <a:xfrm>
              <a:off x="5181480" y="5257800"/>
              <a:ext cx="25146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15"/>
            <p:cNvSpPr/>
            <p:nvPr/>
          </p:nvSpPr>
          <p:spPr>
            <a:xfrm>
              <a:off x="6629400" y="5791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16"/>
            <p:cNvSpPr/>
            <p:nvPr/>
          </p:nvSpPr>
          <p:spPr>
            <a:xfrm>
              <a:off x="5334120" y="4343400"/>
              <a:ext cx="228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rebuchet MS"/>
                </a:rPr>
                <a:t>After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17"/>
            <p:cNvSpPr/>
            <p:nvPr/>
          </p:nvSpPr>
          <p:spPr>
            <a:xfrm>
              <a:off x="6629400" y="5257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18"/>
            <p:cNvSpPr/>
            <p:nvPr/>
          </p:nvSpPr>
          <p:spPr>
            <a:xfrm>
              <a:off x="7086600" y="5410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19"/>
            <p:cNvSpPr/>
            <p:nvPr/>
          </p:nvSpPr>
          <p:spPr>
            <a:xfrm>
              <a:off x="5334120" y="5715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20"/>
            <p:cNvSpPr/>
            <p:nvPr/>
          </p:nvSpPr>
          <p:spPr>
            <a:xfrm>
              <a:off x="5105520" y="5334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21"/>
            <p:cNvSpPr/>
            <p:nvPr/>
          </p:nvSpPr>
          <p:spPr>
            <a:xfrm>
              <a:off x="5562720" y="5257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22"/>
            <p:cNvSpPr/>
            <p:nvPr/>
          </p:nvSpPr>
          <p:spPr>
            <a:xfrm rot="19493400">
              <a:off x="4222440" y="3617640"/>
              <a:ext cx="555480" cy="2079360"/>
            </a:xfrm>
            <a:prstGeom prst="can">
              <a:avLst>
                <a:gd name="adj" fmla="val 1336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 rot="19767600">
              <a:off x="4327560" y="4368240"/>
              <a:ext cx="60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- - - -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indu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inside an object during indu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Static Electr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18288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When the charges in an object move to opposite ends the object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polarized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14"/>
          <p:cNvGrpSpPr/>
          <p:nvPr/>
        </p:nvGrpSpPr>
        <p:grpSpPr>
          <a:xfrm>
            <a:off x="1967040" y="3687120"/>
            <a:ext cx="4020840" cy="2603520"/>
            <a:chOff x="1967040" y="3687120"/>
            <a:chExt cx="4020840" cy="2603520"/>
          </a:xfrm>
        </p:grpSpPr>
        <p:sp>
          <p:nvSpPr>
            <p:cNvPr id="223" name="Oval 15"/>
            <p:cNvSpPr/>
            <p:nvPr/>
          </p:nvSpPr>
          <p:spPr>
            <a:xfrm>
              <a:off x="3473280" y="5297400"/>
              <a:ext cx="25146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16"/>
            <p:cNvSpPr/>
            <p:nvPr/>
          </p:nvSpPr>
          <p:spPr>
            <a:xfrm>
              <a:off x="4921200" y="5830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17"/>
            <p:cNvSpPr/>
            <p:nvPr/>
          </p:nvSpPr>
          <p:spPr>
            <a:xfrm>
              <a:off x="3625920" y="43830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rebuchet MS"/>
                </a:rPr>
                <a:t>Polarize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8"/>
            <p:cNvSpPr/>
            <p:nvPr/>
          </p:nvSpPr>
          <p:spPr>
            <a:xfrm>
              <a:off x="4921200" y="5297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9"/>
            <p:cNvSpPr/>
            <p:nvPr/>
          </p:nvSpPr>
          <p:spPr>
            <a:xfrm>
              <a:off x="5378400" y="544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20"/>
            <p:cNvSpPr/>
            <p:nvPr/>
          </p:nvSpPr>
          <p:spPr>
            <a:xfrm>
              <a:off x="3625920" y="5754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21"/>
            <p:cNvSpPr/>
            <p:nvPr/>
          </p:nvSpPr>
          <p:spPr>
            <a:xfrm>
              <a:off x="3397320" y="5373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22"/>
            <p:cNvSpPr/>
            <p:nvPr/>
          </p:nvSpPr>
          <p:spPr>
            <a:xfrm>
              <a:off x="3854520" y="5297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AutoShape 23"/>
            <p:cNvSpPr/>
            <p:nvPr/>
          </p:nvSpPr>
          <p:spPr>
            <a:xfrm rot="19493400">
              <a:off x="2514240" y="3657240"/>
              <a:ext cx="555480" cy="2079360"/>
            </a:xfrm>
            <a:prstGeom prst="can">
              <a:avLst>
                <a:gd name="adj" fmla="val 1336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4"/>
            <p:cNvSpPr/>
            <p:nvPr/>
          </p:nvSpPr>
          <p:spPr>
            <a:xfrm rot="19767600">
              <a:off x="2619360" y="4407840"/>
              <a:ext cx="60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- - - -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polarizati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polarization look like inside an obj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3.1 Physical Science: Electricity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ur New Un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it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en negatively and positively charged objects are brought together, electrons transfer until both objects have the same ch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negatively and positively charged objects come toget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at happ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Quick Che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Use the vocabulary from this lesson to describe how lightning results from the picture bel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2057400" y="2209680"/>
            <a:ext cx="4114800" cy="2359080"/>
          </a:xfrm>
          <a:prstGeom prst="cloudCallout">
            <a:avLst>
              <a:gd name="adj1" fmla="val -33912"/>
              <a:gd name="adj2" fmla="val -30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Group 5"/>
          <p:cNvGrpSpPr/>
          <p:nvPr/>
        </p:nvGrpSpPr>
        <p:grpSpPr>
          <a:xfrm>
            <a:off x="2743200" y="3429000"/>
            <a:ext cx="2482560" cy="897480"/>
            <a:chOff x="2743200" y="3429000"/>
            <a:chExt cx="2482560" cy="897480"/>
          </a:xfrm>
        </p:grpSpPr>
        <p:sp>
          <p:nvSpPr>
            <p:cNvPr id="243" name="Text Box 6"/>
            <p:cNvSpPr/>
            <p:nvPr/>
          </p:nvSpPr>
          <p:spPr>
            <a:xfrm>
              <a:off x="2743200" y="3429000"/>
              <a:ext cx="496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7"/>
            <p:cNvSpPr/>
            <p:nvPr/>
          </p:nvSpPr>
          <p:spPr>
            <a:xfrm>
              <a:off x="4729320" y="3517560"/>
              <a:ext cx="496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8"/>
            <p:cNvSpPr/>
            <p:nvPr/>
          </p:nvSpPr>
          <p:spPr>
            <a:xfrm>
              <a:off x="3168720" y="3450960"/>
              <a:ext cx="496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9"/>
            <p:cNvSpPr/>
            <p:nvPr/>
          </p:nvSpPr>
          <p:spPr>
            <a:xfrm>
              <a:off x="3736440" y="3473280"/>
              <a:ext cx="496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10"/>
            <p:cNvSpPr/>
            <p:nvPr/>
          </p:nvSpPr>
          <p:spPr>
            <a:xfrm>
              <a:off x="4303800" y="3562200"/>
              <a:ext cx="496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11"/>
          <p:cNvGrpSpPr/>
          <p:nvPr/>
        </p:nvGrpSpPr>
        <p:grpSpPr>
          <a:xfrm>
            <a:off x="3129120" y="6073920"/>
            <a:ext cx="2128680" cy="786600"/>
            <a:chOff x="3129120" y="6073920"/>
            <a:chExt cx="2128680" cy="786600"/>
          </a:xfrm>
        </p:grpSpPr>
        <p:sp>
          <p:nvSpPr>
            <p:cNvPr id="249" name="Text Box 12"/>
            <p:cNvSpPr/>
            <p:nvPr/>
          </p:nvSpPr>
          <p:spPr>
            <a:xfrm>
              <a:off x="4761000" y="6073920"/>
              <a:ext cx="496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13"/>
            <p:cNvSpPr/>
            <p:nvPr/>
          </p:nvSpPr>
          <p:spPr>
            <a:xfrm>
              <a:off x="3129120" y="6073920"/>
              <a:ext cx="496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4194720" y="6073920"/>
              <a:ext cx="495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15"/>
            <p:cNvSpPr/>
            <p:nvPr/>
          </p:nvSpPr>
          <p:spPr>
            <a:xfrm>
              <a:off x="3696480" y="6096240"/>
              <a:ext cx="497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Text Box 17"/>
          <p:cNvSpPr/>
          <p:nvPr/>
        </p:nvSpPr>
        <p:spPr>
          <a:xfrm>
            <a:off x="2819520" y="5867280"/>
            <a:ext cx="49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4876920" y="5791320"/>
            <a:ext cx="49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3048120" y="6095880"/>
            <a:ext cx="49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0"/>
          <p:cNvSpPr/>
          <p:nvPr/>
        </p:nvSpPr>
        <p:spPr>
          <a:xfrm>
            <a:off x="3657600" y="5867280"/>
            <a:ext cx="4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1"/>
          <p:cNvSpPr/>
          <p:nvPr/>
        </p:nvSpPr>
        <p:spPr>
          <a:xfrm>
            <a:off x="4495680" y="6095880"/>
            <a:ext cx="49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reeform 23"/>
          <p:cNvSpPr/>
          <p:nvPr/>
        </p:nvSpPr>
        <p:spPr>
          <a:xfrm>
            <a:off x="1981080" y="5676840"/>
            <a:ext cx="4267440" cy="1181160"/>
          </a:xfrm>
          <a:custGeom>
            <a:avLst/>
            <a:gdLst>
              <a:gd name="textAreaLeft" fmla="*/ 0 w 4267440"/>
              <a:gd name="textAreaRight" fmla="*/ 4267800 w 426744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2688" h="744">
                <a:moveTo>
                  <a:pt x="0" y="696"/>
                </a:moveTo>
                <a:cubicBezTo>
                  <a:pt x="112" y="548"/>
                  <a:pt x="224" y="400"/>
                  <a:pt x="336" y="312"/>
                </a:cubicBezTo>
                <a:cubicBezTo>
                  <a:pt x="448" y="224"/>
                  <a:pt x="584" y="176"/>
                  <a:pt x="672" y="168"/>
                </a:cubicBezTo>
                <a:cubicBezTo>
                  <a:pt x="760" y="160"/>
                  <a:pt x="784" y="280"/>
                  <a:pt x="864" y="264"/>
                </a:cubicBezTo>
                <a:cubicBezTo>
                  <a:pt x="944" y="248"/>
                  <a:pt x="1048" y="96"/>
                  <a:pt x="1152" y="72"/>
                </a:cubicBezTo>
                <a:cubicBezTo>
                  <a:pt x="1256" y="48"/>
                  <a:pt x="1400" y="88"/>
                  <a:pt x="1488" y="120"/>
                </a:cubicBezTo>
                <a:cubicBezTo>
                  <a:pt x="1576" y="152"/>
                  <a:pt x="1592" y="280"/>
                  <a:pt x="1680" y="264"/>
                </a:cubicBezTo>
                <a:cubicBezTo>
                  <a:pt x="1768" y="248"/>
                  <a:pt x="1912" y="0"/>
                  <a:pt x="2016" y="24"/>
                </a:cubicBezTo>
                <a:cubicBezTo>
                  <a:pt x="2120" y="48"/>
                  <a:pt x="2224" y="320"/>
                  <a:pt x="2304" y="408"/>
                </a:cubicBezTo>
                <a:cubicBezTo>
                  <a:pt x="2384" y="496"/>
                  <a:pt x="2432" y="496"/>
                  <a:pt x="2496" y="552"/>
                </a:cubicBezTo>
                <a:cubicBezTo>
                  <a:pt x="2560" y="608"/>
                  <a:pt x="2624" y="676"/>
                  <a:pt x="2688" y="7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31"/>
          <p:cNvGrpSpPr/>
          <p:nvPr/>
        </p:nvGrpSpPr>
        <p:grpSpPr>
          <a:xfrm>
            <a:off x="3052800" y="2492280"/>
            <a:ext cx="2128680" cy="786600"/>
            <a:chOff x="3052800" y="2492280"/>
            <a:chExt cx="2128680" cy="786600"/>
          </a:xfrm>
        </p:grpSpPr>
        <p:sp>
          <p:nvSpPr>
            <p:cNvPr id="260" name="Text Box 32"/>
            <p:cNvSpPr/>
            <p:nvPr/>
          </p:nvSpPr>
          <p:spPr>
            <a:xfrm>
              <a:off x="4684680" y="2492280"/>
              <a:ext cx="496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33"/>
            <p:cNvSpPr/>
            <p:nvPr/>
          </p:nvSpPr>
          <p:spPr>
            <a:xfrm>
              <a:off x="3052800" y="2492280"/>
              <a:ext cx="496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34"/>
            <p:cNvSpPr/>
            <p:nvPr/>
          </p:nvSpPr>
          <p:spPr>
            <a:xfrm>
              <a:off x="4118400" y="2492280"/>
              <a:ext cx="495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3620160" y="2514600"/>
              <a:ext cx="497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Text Box 36"/>
          <p:cNvSpPr/>
          <p:nvPr/>
        </p:nvSpPr>
        <p:spPr>
          <a:xfrm>
            <a:off x="3962520" y="5867280"/>
            <a:ext cx="49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8"/>
          <p:cNvSpPr/>
          <p:nvPr/>
        </p:nvSpPr>
        <p:spPr>
          <a:xfrm>
            <a:off x="5486400" y="2590920"/>
            <a:ext cx="2057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9"/>
          <p:cNvSpPr/>
          <p:nvPr/>
        </p:nvSpPr>
        <p:spPr>
          <a:xfrm>
            <a:off x="6400800" y="297180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0"/>
          <p:cNvSpPr/>
          <p:nvPr/>
        </p:nvSpPr>
        <p:spPr>
          <a:xfrm>
            <a:off x="5943600" y="5943600"/>
            <a:ext cx="21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 questions 9-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The Ba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18288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Part One: P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All matter is made of tiny particles called ato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All atoms are made of tinier particles called protons, neutrons, and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matter made up o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atoms made up o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learn.genetics.utah.edu/content/begin/cells/scale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rebuchet MS"/>
              </a:rPr>
              <a:t>The Ba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0" y="182880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(Neutrons – we’ll deal with these later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Protons – Big and heavy, positive charge +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Electrons – Small and light, negative charge -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Review: Subatomic Partic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oup 3"/>
          <p:cNvGrpSpPr/>
          <p:nvPr/>
        </p:nvGrpSpPr>
        <p:grpSpPr>
          <a:xfrm>
            <a:off x="4952880" y="1143000"/>
            <a:ext cx="2819160" cy="3429000"/>
            <a:chOff x="4952880" y="1143000"/>
            <a:chExt cx="2819160" cy="3429000"/>
          </a:xfrm>
        </p:grpSpPr>
        <p:sp>
          <p:nvSpPr>
            <p:cNvPr id="69" name="Text Box 4"/>
            <p:cNvSpPr/>
            <p:nvPr/>
          </p:nvSpPr>
          <p:spPr>
            <a:xfrm>
              <a:off x="5583240" y="2156760"/>
              <a:ext cx="2188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5400" spc="-1" strike="noStrike" baseline="30000">
                  <a:solidFill>
                    <a:srgbClr val="ff0000"/>
                  </a:solidFill>
                  <a:latin typeface="Times New Roman"/>
                  <a:ea typeface="Times New Roman"/>
                </a:rPr>
                <a:t>-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Picture 5" descr="j0160370"/>
            <p:cNvPicPr/>
            <p:nvPr/>
          </p:nvPicPr>
          <p:blipFill>
            <a:blip r:embed="rId1"/>
            <a:stretch/>
          </p:blipFill>
          <p:spPr>
            <a:xfrm>
              <a:off x="5955480" y="1143000"/>
              <a:ext cx="10843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Line 6"/>
            <p:cNvSpPr/>
            <p:nvPr/>
          </p:nvSpPr>
          <p:spPr>
            <a:xfrm>
              <a:off x="6519240" y="1930680"/>
              <a:ext cx="0" cy="19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7"/>
            <p:cNvSpPr/>
            <p:nvPr/>
          </p:nvSpPr>
          <p:spPr>
            <a:xfrm flipH="1">
              <a:off x="5892480" y="3838320"/>
              <a:ext cx="6264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8"/>
            <p:cNvSpPr/>
            <p:nvPr/>
          </p:nvSpPr>
          <p:spPr>
            <a:xfrm>
              <a:off x="6519240" y="3838320"/>
              <a:ext cx="563760" cy="73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9"/>
            <p:cNvSpPr/>
            <p:nvPr/>
          </p:nvSpPr>
          <p:spPr>
            <a:xfrm flipV="1">
              <a:off x="6519240" y="1832760"/>
              <a:ext cx="876960" cy="58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0"/>
            <p:cNvSpPr/>
            <p:nvPr/>
          </p:nvSpPr>
          <p:spPr>
            <a:xfrm>
              <a:off x="5704560" y="1832760"/>
              <a:ext cx="814320" cy="58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Picture 11" descr="PE03087_"/>
            <p:cNvPicPr/>
            <p:nvPr/>
          </p:nvPicPr>
          <p:blipFill>
            <a:blip r:embed="rId2"/>
            <a:stretch/>
          </p:blipFill>
          <p:spPr>
            <a:xfrm>
              <a:off x="4952880" y="1637280"/>
              <a:ext cx="83016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" name="Group 20"/>
          <p:cNvGrpSpPr/>
          <p:nvPr/>
        </p:nvGrpSpPr>
        <p:grpSpPr>
          <a:xfrm>
            <a:off x="228600" y="990720"/>
            <a:ext cx="3276720" cy="3657240"/>
            <a:chOff x="228600" y="990720"/>
            <a:chExt cx="3276720" cy="3657240"/>
          </a:xfrm>
        </p:grpSpPr>
        <p:sp>
          <p:nvSpPr>
            <p:cNvPr id="78" name="Oval 21"/>
            <p:cNvSpPr/>
            <p:nvPr/>
          </p:nvSpPr>
          <p:spPr>
            <a:xfrm>
              <a:off x="335880" y="1557000"/>
              <a:ext cx="3061800" cy="283356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Picture 22" descr="BD06100_"/>
            <p:cNvPicPr/>
            <p:nvPr/>
          </p:nvPicPr>
          <p:blipFill>
            <a:blip r:embed="rId3"/>
            <a:srcRect l="0" t="0" r="0" b="45880"/>
            <a:stretch/>
          </p:blipFill>
          <p:spPr>
            <a:xfrm>
              <a:off x="1410120" y="990720"/>
              <a:ext cx="896400" cy="66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Oval 23"/>
            <p:cNvSpPr/>
            <p:nvPr/>
          </p:nvSpPr>
          <p:spPr>
            <a:xfrm>
              <a:off x="389520" y="4184640"/>
              <a:ext cx="1020240" cy="4633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2323440" y="4184640"/>
              <a:ext cx="1020240" cy="4633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25"/>
            <p:cNvSpPr/>
            <p:nvPr/>
          </p:nvSpPr>
          <p:spPr>
            <a:xfrm>
              <a:off x="228600" y="1763280"/>
              <a:ext cx="483480" cy="4118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26"/>
            <p:cNvSpPr/>
            <p:nvPr/>
          </p:nvSpPr>
          <p:spPr>
            <a:xfrm>
              <a:off x="3021840" y="1814760"/>
              <a:ext cx="483480" cy="4122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27"/>
            <p:cNvSpPr/>
            <p:nvPr/>
          </p:nvSpPr>
          <p:spPr>
            <a:xfrm>
              <a:off x="1195560" y="1917720"/>
              <a:ext cx="155772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6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r>
                <a:rPr b="1" lang="en-US" sz="10600" spc="-1" strike="noStrike" baseline="30000">
                  <a:solidFill>
                    <a:srgbClr val="ffff00"/>
                  </a:solidFill>
                  <a:latin typeface="Times New Roman"/>
                </a:rPr>
                <a:t>+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Picture 28" descr="E:\PFiles\MSOffice\Clipart\corpbas\j0079118.wmf"/>
          <p:cNvPicPr/>
          <p:nvPr/>
        </p:nvPicPr>
        <p:blipFill>
          <a:blip r:embed="rId4"/>
          <a:stretch/>
        </p:blipFill>
        <p:spPr>
          <a:xfrm>
            <a:off x="7756560" y="4724280"/>
            <a:ext cx="1387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charge does a proton have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charge does an electron have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is bigger, a proton or an electr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17:49:59Z</dcterms:created>
  <dc:creator>Rob LoPiccolo</dc:creator>
  <dc:description/>
  <dc:language>en-US</dc:language>
  <cp:lastModifiedBy>Krystyna Brandt</cp:lastModifiedBy>
  <dcterms:modified xsi:type="dcterms:W3CDTF">2011-06-27T20:24:41Z</dcterms:modified>
  <cp:revision>9</cp:revision>
  <dc:subject/>
  <dc:title>Electricity</dc:title>
</cp:coreProperties>
</file>